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1800" indent="-270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175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3600" indent="-2030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29320" indent="-20268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8760" y="19382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ap Version 0.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314960" y="3468600"/>
            <a:ext cx="144756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n F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pport Multiple Instal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 multiple CMaps on the same machine that use the same Perl Modu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allows some CMaps installs to be password protected or be hosted by separate web ser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uring installation, alternate configuration directories can be prov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2166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do-CMap Synchr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e C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and populate some specialized tables in Chado (featureset, feature_features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n script to copy data from Chado to C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stall triggers into Chado to update CMap when Chado is chan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figure C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 map and feature types to the CMap configuration file that correspond to the cvterm name for Chado feat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ilure to do so, will stop the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do Database Mod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 tables,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s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_features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to mimic the CMap concept of a “map set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e featureset 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dd tables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set_dbxre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eatureloc_dbxref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for linking to C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95560" y="941400"/>
            <a:ext cx="7542000" cy="214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81160" y="3400560"/>
            <a:ext cx="7210440" cy="33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cript is used to transfer the prepared data into CMap and create the dbxrefs in Ch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iggers in Chado will update CMap after every insert, update or dele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oss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ch Chado feature that has been exported to CMap will have a dbxref with the ID of the corresponding CMap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urrently, CMap itself doesn't have a simple way to get back to the chado data bu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1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nfig file has a place to insert Perl code that could access the Chado d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11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attribute could be added to the CMap obj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2166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5000" y="96840"/>
            <a:ext cx="86076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Map Version 0.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7480" y="1185840"/>
            <a:ext cx="860760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g fixes and code 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ntuitive menu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ynchronous loading of comparative map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itial Page Ca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ado synchroniz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cript to stack relational maps into on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 for multiple instal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6840" y="194760"/>
            <a:ext cx="86072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nu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70080" y="1225440"/>
            <a:ext cx="738648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480960"/>
            <a:ext cx="8607240" cy="15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synchronou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arative Maps 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1400" y="2098800"/>
            <a:ext cx="8595000" cy="50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itial Page Ca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: Speed up the initial view of CM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commonly accessed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1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ole page cache of first view of a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16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che “Saved Lin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do Synchr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e CMap with data from Ch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eate triggers in Chado to keep data synchro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discussion later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cking Relational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6520" y="2046240"/>
            <a:ext cx="4370400" cy="501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678640" y="2028960"/>
            <a:ext cx="3595680" cy="4778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43400" y="1860480"/>
            <a:ext cx="1800" cy="4986360"/>
          </a:xfrm>
          <a:prstGeom prst="line">
            <a:avLst/>
          </a:prstGeom>
          <a:ln w="109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cking Relational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09760" y="1763640"/>
            <a:ext cx="5099040" cy="533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